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88B-2B72-4CF1-B67D-7C0039A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403-F210-4B94-9852-29692338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B80-F548-4972-BE7F-7241603C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86C-574C-4DE2-90E0-FFD54556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1B0E-F6F5-4A7C-9085-1DCAF723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6A4-6986-44A4-B7D6-67ECC53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AA39-526C-44BF-B172-A3A400F9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09AD-55B5-4A37-8E45-632CA5A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68CD-2114-464F-9A6E-9BA72A72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4AF-6767-4BD0-942A-55EDD0E6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5A40-AFBC-4B6A-A08E-010FF25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183-9339-4533-9F3B-83AFECE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36D3-CEA8-479C-956F-801FAD3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B7D-9D9B-4CC8-9BDE-71562E7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5B0F-67A2-48CA-9E3B-3D545D7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FDC-E0EC-4AB0-AF77-EEC540E1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BB52-C8BC-4D43-AF97-B1800724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7DD-021F-48E9-A78C-2F6D6D1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E22-94DD-41E4-A8A9-EE508A3A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46C-7DC8-4890-BA49-8BD343A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D97-D724-43D7-895F-47DCD75B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0E6-24F5-4EDC-9A33-CB35FB5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0F7-409D-4BA0-9FF5-32F305F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380-6D28-41A8-96C9-69D1C57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91F3-BDF5-4278-8F39-2974E3A71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9440-953B-4EC1-93AD-CEE2B8BCB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ravel.nationalgeographic.com/places/images/photos/photo_lg_kazakhstan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cache.virtualtourist.com/2189757-Medeu_Almaty_Kazakhstan-Almaty.jpg" TargetMode="External"/><Relationship Id="rId5" Type="http://schemas.openxmlformats.org/officeDocument/2006/relationships/image" Target="../media/image8.png"/><Relationship Id="rId6" Type="http://schemas.openxmlformats.org/officeDocument/2006/relationships/hyperlink" Target="https://www.cia.gov/library/publications/the-world-factbook/geos/kz.html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Flag of Kazakhstan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azakhst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an Trump and Nick Wetz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travel.nationalgeographic.com/places/images/photos/photo_lg_kazakhstan.jp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cache.virtualtourist.com/2189757-Medeu_Almaty_Kazakhstan-Almaty.jp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s://www.cia.gov/library/publications/the-world-factbook/geos/kz.htm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 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ytravelinasia.com/wp-content/uploads/2008/03/kazakhstan.jpg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kazakhstan.orexca.com/kazakhstan_culture.shtml    (Feb. 1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elect-a-room.com/images/db/8/289_astana%20tower.jpg  (Feb.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Central Asia (below Russ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2,717,300 total sq.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ural 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etroleum, natural gas, coal, iron ore, manganese, chrome ore, nickel, cobalt, copper, molybdenum, lead, zinc, bauxite, gold, uran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006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ga and Altai Mountains and plains in western Sib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ses and deserts in Central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astline (landlock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/ Vege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limate, cold winters and hot sum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ural Wild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onb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y Wol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ager (Asian donk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St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ow Leop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inly Drought resistant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m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mar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her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ublican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ial rule; little power outside of executive bra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fe Expecta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ales- 62.2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- 73.16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15,340,533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December 1991: Gained independence from the Sovie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ost-independence constitution adopted on the 28th January 199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onstitution adopted by national referendum on the 30th August 199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vent URL: http://news.bbc.co.uk/2/hi/asia-pacific/7878824.s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dustr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il, coal, iron ore, manganese, lead, zinc, copper, titanium, bauxite, gold, silver, phosphates, sulfur, iron and steel; tractors and other agricultural machinery, electric motors, construction materi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jor Expor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il,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Religion: Is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ed guests are treated to a feast of freshly killed la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rns of mountain rams and goats are used to decorate beds and cas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azakh national dress varies by reg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wear chapans; a kind of dressing gown with a belt, made of velvet and richly embroidered. They cover their heads with a soft skullcap, a tall felt cap or a fox-fur hat with earfl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men's cost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ists of a white cotton or colo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k 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velvet waistcoat with embroidery and a cap or a silk sc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derly women wear a hood made of white cloth with a hole for the f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279520" cy="337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071880" cy="2046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2303640" cy="3595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ana, the capital of Kazakh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9:21Z</dcterms:created>
  <dc:creator>ianstrump</dc:creator>
  <dc:description/>
  <dc:language>en-US</dc:language>
  <cp:lastModifiedBy>ianstrump</cp:lastModifiedBy>
  <dcterms:modified xsi:type="dcterms:W3CDTF">2009-02-19T16:03:21Z</dcterms:modified>
  <cp:revision>17</cp:revision>
  <dc:subject/>
  <dc:title>Kazakhstan</dc:title>
</cp:coreProperties>
</file>